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5.wmf" ContentType="image/x-wmf"/>
  <Override PartName="/ppt/media/image1.png" ContentType="image/png"/>
  <Override PartName="/ppt/media/image4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18B-CFA2-4EAF-B529-72740376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4363-8652-4ABF-96C2-738EA76A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92A-E6FB-4C35-B1A0-9FB99971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71D-902C-4E8C-A60B-D5D9F1EB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FEF5-4FEB-45D5-93BA-B1168201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5F36-4DB7-41F1-836E-8290E00A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49EE-185D-4CA7-8722-F8E78331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F678-31E2-4D3A-B649-93B5C47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B572-ABE8-4BB0-B0CF-B7423F7F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FAB1-FA97-4672-92CC-F97D89C5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79B-0329-44AF-811B-99C8DAAC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828-3C19-458B-981E-03458DCF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5BC3-2E13-44A8-B5CC-DD9A4E6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481B-8C47-4DC0-9C8B-3592F270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C20C-2A5A-472D-81A8-3FD297E6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1B3C-5F7B-41DB-BFA8-5E4F69FE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223A-452F-483E-91E5-0FA616AD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A175-B04E-4507-AC19-6226A37E4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9B0-7DEB-4C27-980E-7D04805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B06-A27B-4D2A-8285-5E1E4FFC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454A-B7F9-4115-AB38-3473DEC5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00E-9F86-4CFA-86F0-083CC828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701-51C8-4532-9DDB-E608C70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0559-75AB-465C-AC84-02F33681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CE82-86FE-47B0-8952-2AE9A0117C4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D9A-229F-4C8F-A94D-E9CBFB6FDEB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Дипломный проект на тему: «Автоматизация системы бюджетирования финансовой службы ЗАО «Телмос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полнен студент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ы 98 – Э – 5 Василишиной О.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ководитель доц. Кусмарцева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070760" y="326376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11280" y="425520"/>
          <a:ext cx="8064360" cy="593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25520"/>
                    <a:ext cx="8064360" cy="59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468360" y="404640"/>
          <a:ext cx="8207280" cy="59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04640"/>
                    <a:ext cx="82072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6443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результате внедрения технологии бюджетирования предприятие получит эффективное средство для планирования денежных средств, выявления финансовых резервов, оценки эффективности деятельности структурных подразделений и решения многих других финансово-экономических задач. Конечная же цель данной технологии — сделать экономическое развитие предприятия управляемым, а все процессы, связанные с финансами и бюджетом, — прозрачными для руководите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948360" y="4653000"/>
            <a:ext cx="1868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Основные задачи систем бюджетирова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бюджета (включая согласование и утверждение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оль его исполнения (оценка соответствия плана и факта)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ализ причин отклонений фактических данных от плановых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аким образом, бюджетирование включает в себя два основных элемента - планирование и контрол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0" y="5661000"/>
          <a:ext cx="9144000" cy="11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61000"/>
                    <a:ext cx="9144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0" y="0"/>
          <a:ext cx="9144000" cy="126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3280" y="259920"/>
            <a:ext cx="59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Структура производства</a:t>
            </a:r>
            <a:br>
              <a:rPr sz="2800"/>
            </a:br>
            <a:r>
              <a:rPr b="1" i="1" lang="en-US" sz="2800" spc="-1" strike="noStrike">
                <a:solidFill>
                  <a:srgbClr val="000080"/>
                </a:solidFill>
                <a:latin typeface="Arial"/>
              </a:rPr>
              <a:t>и управления ЗАО  «Телмос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0" y="1125360"/>
          <a:ext cx="9144000" cy="532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125360"/>
                    <a:ext cx="914400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ункциональная модель процесса бюджетного управления ЗАО «Телмос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6984" r="0" b="0"/>
          <a:stretch/>
        </p:blipFill>
        <p:spPr>
          <a:xfrm>
            <a:off x="755640" y="1916280"/>
            <a:ext cx="77770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Бизнес – процесс бюджетного управления предприятие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7461"/>
          <a:stretch/>
        </p:blipFill>
        <p:spPr>
          <a:xfrm>
            <a:off x="395280" y="1600200"/>
            <a:ext cx="82803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ирование бюджета предприят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0" r="0" b="6984"/>
          <a:stretch/>
        </p:blipFill>
        <p:spPr>
          <a:xfrm>
            <a:off x="468360" y="1557360"/>
            <a:ext cx="835164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ирование бюджетов подраздел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6984" r="0" b="0"/>
          <a:stretch/>
        </p:blipFill>
        <p:spPr>
          <a:xfrm>
            <a:off x="539640" y="1758960"/>
            <a:ext cx="82803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993" t="18012" r="2466" b="40994"/>
          <a:stretch/>
        </p:blipFill>
        <p:spPr>
          <a:xfrm>
            <a:off x="250920" y="333360"/>
            <a:ext cx="86421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кономическая эффектив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ффективность повышается за счет следующих фактор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ится в единый баланс все множество финансовых потоков, связанных с формированием доходов и затра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репление бюджетов за подразделениями переносит значительную часть ответственности за уровень заработной платы работников с директора предприятия на руководителей этих подразде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лизуется принцип материальной заинтересованности всего персонала в результатах работы как своего подразделения и предприятия в целом. Становится выгодным повышать доходы и снижать затраты, так как при этом будет расти зарпл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джетный процесс реализует на предприятии все функции управления финансами, а именно - планирование, организацию, мотивацию, учет, анализ и регулирова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новится возможным ориентировать финансовую политику на решение конкретных проб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основу финансового планирования закладывается план производства продукции, материально-технического и кадрового обеспе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истема бюджетирования становится основой комплексного управление всеми направлениями деятельности предприят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1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10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10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10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0:17:15Z</dcterms:created>
  <dc:creator>vasilishina</dc:creator>
  <dc:description/>
  <dc:language>en-US</dc:language>
  <cp:lastModifiedBy>vasilishina</cp:lastModifiedBy>
  <dcterms:modified xsi:type="dcterms:W3CDTF">2003-06-02T12:09:33Z</dcterms:modified>
  <cp:revision>8</cp:revision>
  <dc:subject/>
  <dc:title>Дипломный проект на тему: «Автоматизация системы бюджетирования финансовой службы ЗАО «Телмос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